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315-C61D-413D-BCD6-F4EC3DC3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688-7E47-43CC-AB55-2854A64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E4B-9150-464A-92CC-58FD7B03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7A6-E0B6-4A0F-BA0D-EA2A9DB1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B5B-F88E-416B-A744-DD73A751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F41-E412-4376-A8B6-727332EB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FE1-1EC4-46C2-A308-09D0FB36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492-9AF1-452E-B704-F4BAFE6C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E45-5DBB-496F-9340-14223D65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0FF-4B57-4BAE-B32E-18D9021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C4B-A55A-456C-9521-DB220A1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805-84C9-4918-A853-AE500009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72A1-2445-44ED-B6A6-E47E9D4E5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1:  More About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381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:  You are healthy, but a test says you have a disease (false posi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I:  You are not healthy, but the test says you do not have a disease (false neg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:  Jury convicts a innocent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I:  Jury fails to convict a guilty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I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often does a Type I Error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when null hypothesis is true, but you have the misfortune to draw the unusual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ject null hypothesis, P-value must fall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ull hypothesis is true, but we reject it the P-value is exac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t        , you are setting the probability of a Type I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, you can only have a Type I error if the null hypothesis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543800" y="28954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8120" y="37339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4191120"/>
                <a:ext cx="6094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II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Null Hypothesis is not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ull hypothesis is false and we reject if, we have done the correct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ull hypothesis is false and we fail to reject it, we have committed a Type II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that this error occurs is denoted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3880" y="4419720"/>
                <a:ext cx="428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Type I Error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Type II Error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410080" y="2133720"/>
                <a:ext cx="641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562720" y="3657600"/>
                <a:ext cx="3952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ing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Error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is reducing one, without increasing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:  To reduce Type I error, I reduce my        ; however, then my       , or Type II error would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way to reduce both errors is to collect more evidence—mor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imes studies fail because sample sizes are too small to detect the change they are looking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esigning a survey or experiment it is a good idea to calculate      , for a reasonable      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24280" y="54864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38280" y="5486400"/>
                <a:ext cx="238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86600" y="25146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29000" y="2819520"/>
                <a:ext cx="38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—related to reducing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atural to think that if we failed to reject the null hypothesis we did not look hard enough and made the wrong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null hypothesis really false and our test was too weak to detect the strength of the dif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a test that is strong enough to make the right decision when should be rejecting the null hypothesis when it really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WER of the test tells us how strong our test is in rejecting a false null hypo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ower is high, we can be confident that we looked hard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ower tells us that our test is strong and has a very good chance of detecting a false null hypothesis (very good chance of NOT making a Type II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is calcula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complement of making a Type II Err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42670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study fails to reject the Null Hypothesis, the Power of the test comes into 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calculate Power, we imagine the null hypothesis is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Power depends on how far the truth lies from the null hypothesis—this distance is called the “effect siz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14600" y="5334120"/>
                <a:ext cx="4038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</m:t>
                    </m:r>
                    <m:r>
                      <m:rPr>
                        <m:lit/>
                        <m:nor/>
                      </m:rPr>
                      <m:t xml:space="preserve">size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6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ll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ng it can sometimes be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vent is random or result of “Guessing”, then many times your null is unusual,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when testing to see if “coin is fair” or to see if “someone has ESP and can predict which closed hand contains a prize” or to see if “die is fai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00200" y="2895480"/>
                <a:ext cx="2133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876920" y="2819520"/>
                <a:ext cx="1752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from visu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   to lower Type I error will move the critical value,     to the right and have the effect of increasing      the probability of a Type II error and consequentially reduc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large the effect size, the smaller the chance of making a Type II Error and the greater that power of th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6172200" cy="364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33720" y="4191120"/>
                <a:ext cx="3045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76520" y="4419720"/>
                <a:ext cx="417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81080" y="365760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077320" y="4495680"/>
                <a:ext cx="285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ing Both Type I and Type II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discussed earlier—increase the sample size.  The effect of a larger sample size can be seen below.  An increased sample size will reduce the standard deviation, thus making the curves narr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2313000"/>
            <a:ext cx="60199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91160" y="2732040"/>
            <a:ext cx="4224240" cy="3191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ing Both Type I and Type II Error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comparison of err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errors with a larger sample s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396216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pha Levels (Significant Leve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-Value is small, it tells us that our data is rare given the null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rare is rare? How low must it be to reject the null hypo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bitrarily set a threshold for P-value and if it is below that value, we reject the null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reshold is called the ALPH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pha Levels (Significant Leve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note the Alpha Level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the significant level because values under the       are considered statistically signific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reject the null, “the test is significant at the       =.05 leve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select      before you look a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port P-value and        level in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47920" y="3962520"/>
                <a:ext cx="4888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048120" y="4495680"/>
                <a:ext cx="4888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334120" y="1676520"/>
                <a:ext cx="685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362320" y="2666880"/>
                <a:ext cx="6858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105520" y="5029200"/>
                <a:ext cx="685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00200" y="2133720"/>
          <a:ext cx="6374880" cy="3463560"/>
        </p:xfrm>
        <a:graphic>
          <a:graphicData uri="http://schemas.openxmlformats.org/drawingml/2006/table">
            <a:tbl>
              <a:tblPr/>
              <a:tblGrid>
                <a:gridCol w="2124720"/>
                <a:gridCol w="2125440"/>
                <a:gridCol w="2124720"/>
              </a:tblGrid>
              <a:tr h="866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1-si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2-si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6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Alpha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801960" cy="174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00600" y="457200"/>
            <a:ext cx="4070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alternative is two-sided, the critical value spli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ally into two tai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802320" cy="1741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457200"/>
            <a:ext cx="4070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alternative is one-sided, the critical value puts all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one s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al vs Statistical Signific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rger sample sizes, small unimportant deviations from the null can be statistically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maller sample sizes, large seemingly important deviations from the null may not be statistically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always do a reality check—what is the big deal about that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t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pproximate a hypothesis by examining a 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k whether the null is consistent with a CI for the parameter at the corresponding confidenc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95% Confidence interval corresponds to a two-sided hypothesis test at               (sum of the two ta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95% Confidence interval corresponds to a one-sided hypothesis test at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410080" y="4343400"/>
                <a:ext cx="12956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486400" y="5562720"/>
                <a:ext cx="1708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some shocking news for you: nobody’s perfect. Even with lots of evidence we can still make the wrong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perform a hypothesis test, we can make mistake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ll hypothesis is true, but we mistakenly reject it.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Type I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ll hypothesis is false, but we fail to reject it.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Type II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03:56Z</dcterms:created>
  <dc:creator> </dc:creator>
  <dc:description/>
  <dc:language>en-US</dc:language>
  <cp:lastModifiedBy> </cp:lastModifiedBy>
  <dcterms:modified xsi:type="dcterms:W3CDTF">2009-12-10T09:14:59Z</dcterms:modified>
  <cp:revision>16</cp:revision>
  <dc:subject/>
  <dc:title>Chapter 21:  More About Tests</dc:title>
</cp:coreProperties>
</file>